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77A2C-687D-43CD-96EC-170F195DB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8FEB0-4BB2-4506-87C2-7EA179220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2EB22-6E51-4F2B-B68F-5668ED047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D9EED-4C56-4DCB-879E-349D0089C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CAEA3-D59C-4F61-800E-54B8FA7E0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AF546-789D-451F-8398-F41EE36C7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814E9-E6B2-4236-8863-843DC7D8C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FE2D0-E2C0-475C-A6A6-94CD5689D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05902-4D68-4EE3-91C4-D10FFCC63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46FA8-ADA0-41E6-8DF3-56AEB9A53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B19D4-ACBB-4C37-ADA1-00967A382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E7985-864C-46C3-8F29-B42FA2033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05965-58C1-4D1F-89ED-71A9644926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 Moi »</a:t>
            </a:r>
            <a:br>
              <a:rPr sz="4000"/>
            </a:br>
            <a:r>
              <a:rPr b="0" lang="fr-CA" sz="4000" spc="-1" strike="noStrike">
                <a:solidFill>
                  <a:srgbClr val="000000"/>
                </a:solidFill>
                <a:latin typeface="Arial"/>
              </a:rPr>
              <a:t>Je m’appelle Lise. J’ai 38 ans. J’ai les yeux bruns et les cheveux bruns. Sur ma photo, je porte un chandail jaune et des jeans. Ma fête est le 25 avril et j’aime les Jelly Beans!!</a:t>
            </a:r>
            <a:endParaRPr b="0" lang="en-US" sz="4000" spc="-1" strike="noStrike">
              <a:solidFill>
                <a:srgbClr val="000000"/>
              </a:solidFill>
              <a:latin typeface="Arial"/>
            </a:endParaRPr>
          </a:p>
        </p:txBody>
      </p:sp>
      <p:pic>
        <p:nvPicPr>
          <p:cNvPr id="42" name="" descr=""/>
          <p:cNvPicPr/>
          <p:nvPr/>
        </p:nvPicPr>
        <p:blipFill>
          <a:blip r:embed="rId1"/>
          <a:stretch/>
        </p:blipFill>
        <p:spPr>
          <a:xfrm>
            <a:off x="3581280" y="4800600"/>
            <a:ext cx="1752840" cy="153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Moi!</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5T13:34:23Z</dcterms:created>
  <dc:creator>nbdoe</dc:creator>
  <dc:description/>
  <dc:language>en-US</dc:language>
  <cp:lastModifiedBy>nbdoe</cp:lastModifiedBy>
  <dcterms:modified xsi:type="dcterms:W3CDTF">2008-09-10T17:51:15Z</dcterms:modified>
  <cp:revision>2</cp:revision>
  <dc:subject/>
  <dc:title>Je m’appelle Lise. J’ai 38 ans. J’ai 2 sœurs. Elles s’appellent Lucie et France. J’ai 2 chats. Mes chats s’appellent Miss Universe et Banana Republic. Ma bicyclette se nomme Daylaila!!J’aime les Jelly Beans!!</dc:title>
</cp:coreProperties>
</file>